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4343-3E12-435D-ACA5-AD3F2832F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C833-A92C-4993-8187-606944831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w Cen MT Condensed"/>
              </a:rPr>
              <a:t>Introduction to NLTK</a:t>
            </a:r>
            <a:endParaRPr b="0" lang="en-US" sz="6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560" y="3611520"/>
            <a:ext cx="7086600" cy="14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LN – Natural Language Processing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S probabilit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19320" y="1905120"/>
          <a:ext cx="6629400" cy="4397400"/>
        </p:xfrm>
        <a:graphic>
          <a:graphicData uri="http://schemas.openxmlformats.org/drawingml/2006/table">
            <a:tbl>
              <a:tblPr/>
              <a:tblGrid>
                <a:gridCol w="1104840"/>
                <a:gridCol w="1104840"/>
                <a:gridCol w="1104840"/>
                <a:gridCol w="1104840"/>
                <a:gridCol w="1105200"/>
                <a:gridCol w="110484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db8ff"/>
                      </a:solidFill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adb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adb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adb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adb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adb8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db8ff"/>
                      </a:solidFill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db8ff"/>
                      </a:solidFill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db8ff"/>
                      </a:solidFill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db8ff"/>
                      </a:solidFill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db8ff"/>
                      </a:solidFill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mport nltk’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need to import the necessary modules to create objects and call member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~ include objects from pre-built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Dist, ConditionalFreqDist are in nltk.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textCorpusReader is in nltk.cor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 1.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examples from Chapter 1 of NLTK boo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nltk.googlecode.com/svn/trunk/doc/book/ch01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 2.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examples from Chapter 3 of NLTK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nltk.googlecode.com/svn/trunk/doc/book/ch03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stalling NLT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633320"/>
            <a:ext cx="8381880" cy="49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2556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and Inst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552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ttp://nltk.org/install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wnload NLTK da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5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&gt;&gt;&gt; import nl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5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&gt;&gt;&gt; nltk.download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NLTK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LT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2120" y="1676520"/>
            <a:ext cx="815328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e of classes for several NLP ta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ing, POS tagging, classifier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ext processing utilities, corpo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n, Penn Treebank corpu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data was divided into sentences using ‘punkt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LTK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at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d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speech tag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Net, Tree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guistic Task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6984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art of Speech Tag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ar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ord 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amed Entity Recog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formation Retrie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ntiment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ocument Cluste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opic Seg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6984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uth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chine Trans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umma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formation Ex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poken Dialog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atural Language Gen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ord Sense Disambig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t of Speech Tagg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: Given a string of words, identify the parts of speech for each wor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walks into a b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 Noun Verb Prep Det No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S Tag Usag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level synta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Sense Disambig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Role lab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, Topic, Sent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How to do it?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tated D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walks into a b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 Noun Verb Prep Det No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abeled D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walks ho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tcher issued four walk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0:14:07Z</dcterms:created>
  <dc:creator>apd</dc:creator>
  <dc:description/>
  <dc:language>en-US</dc:language>
  <cp:lastModifiedBy>Giuseppe Attardi</cp:lastModifiedBy>
  <dcterms:modified xsi:type="dcterms:W3CDTF">2013-03-12T20:40:20Z</dcterms:modified>
  <cp:revision>117</cp:revision>
  <dc:subject/>
  <dc:title>Getting started with Python/NLTK</dc:title>
</cp:coreProperties>
</file>